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applause.wav" ContentType="audio/x-wav"/>
  <Override PartName="/ppt/media/drumroll.wav" ContentType="audio/x-wav"/>
  <Override PartName="/ppt/media/image7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8DBB-87BD-4FC1-8020-EF1F30130F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s 10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20D-6104-4D77-AE02-FDD2EC1F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BEE-625F-4E85-B302-2E8C5DA4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829-8925-4836-BA5F-0B9FBA13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0CA-2D7A-4357-AEAC-829924B8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156-CAC3-473E-9672-BB0E5637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78B-73D6-47CC-BF70-ABF86A3A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715-54DD-4043-AA9A-E1225093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EF9-78E6-4F22-8209-9D9528E6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169-22CD-4A24-8CF7-B7F8D979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846-1DB0-42AD-80EB-96BA4B87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708-539B-4CC6-9FC3-5AFC592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521-4634-4A27-BB68-7DA0A51A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377-175C-44F9-93CF-2F503E36A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457200"/>
            <a:ext cx="8458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ggy Colson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nical Terminolog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des 10-12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loopclock"/>
          <p:cNvPicPr/>
          <p:nvPr/>
        </p:nvPicPr>
        <p:blipFill>
          <a:blip r:embed="rId1"/>
          <a:stretch/>
        </p:blipFill>
        <p:spPr>
          <a:xfrm>
            <a:off x="3124080" y="1523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6668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447920" y="40384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very h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447920" y="5562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Quaque hora - L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685800" y="380880"/>
            <a:ext cx="792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.i.d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 times daily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838080" y="5334120"/>
            <a:ext cx="746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ter in die -Lati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wb01330_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wb01330_"/>
          <p:cNvPicPr/>
          <p:nvPr/>
        </p:nvPicPr>
        <p:blipFill>
          <a:blip r:embed="rId2"/>
          <a:stretch/>
        </p:blipFill>
        <p:spPr>
          <a:xfrm>
            <a:off x="68580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wb01330_"/>
          <p:cNvPicPr/>
          <p:nvPr/>
        </p:nvPicPr>
        <p:blipFill>
          <a:blip r:embed="rId3"/>
          <a:stretch/>
        </p:blipFill>
        <p:spPr>
          <a:xfrm>
            <a:off x="48769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b01330_"/>
          <p:cNvPicPr/>
          <p:nvPr/>
        </p:nvPicPr>
        <p:blipFill>
          <a:blip r:embed="rId4"/>
          <a:stretch/>
        </p:blipFill>
        <p:spPr>
          <a:xfrm>
            <a:off x="1066680" y="2514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22860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o.d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other da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19320" y="5410080"/>
            <a:ext cx="6324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 otro die - 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4" descr="wb01330_"/>
          <p:cNvPicPr/>
          <p:nvPr/>
        </p:nvPicPr>
        <p:blipFill>
          <a:blip r:embed="rId1"/>
          <a:stretch/>
        </p:blipFill>
        <p:spPr>
          <a:xfrm>
            <a:off x="380880" y="2362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b01330_"/>
          <p:cNvPicPr/>
          <p:nvPr/>
        </p:nvPicPr>
        <p:blipFill>
          <a:blip r:embed="rId2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a00494_"/>
          <p:cNvPicPr/>
          <p:nvPr/>
        </p:nvPicPr>
        <p:blipFill>
          <a:blip r:embed="rId3"/>
          <a:stretch/>
        </p:blipFill>
        <p:spPr>
          <a:xfrm>
            <a:off x="2209680" y="259092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00494_"/>
          <p:cNvPicPr/>
          <p:nvPr/>
        </p:nvPicPr>
        <p:blipFill>
          <a:blip r:embed="rId4"/>
          <a:stretch/>
        </p:blipFill>
        <p:spPr>
          <a:xfrm>
            <a:off x="5867280" y="25146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b01330_"/>
          <p:cNvPicPr/>
          <p:nvPr/>
        </p:nvPicPr>
        <p:blipFill>
          <a:blip r:embed="rId5"/>
          <a:stretch/>
        </p:blipFill>
        <p:spPr>
          <a:xfrm>
            <a:off x="7391520" y="2362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38080" y="304920"/>
            <a:ext cx="7086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ufficient quantit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609480" y="4267080"/>
            <a:ext cx="7543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uantum sufficiat 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838080" y="1371600"/>
            <a:ext cx="65534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uar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557360" y="2570040"/>
            <a:ext cx="6029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#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716_"/>
          <p:cNvPicPr/>
          <p:nvPr/>
        </p:nvPicPr>
        <p:blipFill>
          <a:blip r:embed="rId1"/>
          <a:stretch/>
        </p:blipFill>
        <p:spPr>
          <a:xfrm>
            <a:off x="304920" y="3733920"/>
            <a:ext cx="3581280" cy="270648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838080" y="533520"/>
            <a:ext cx="7391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t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tien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16002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143000" y="1523880"/>
            <a:ext cx="731520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ulv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owder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914400" y="1447920"/>
            <a:ext cx="72388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vt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riv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990720" y="762120"/>
            <a:ext cx="7010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5" name="Picture 4" descr="pe02364_"/>
          <p:cNvPicPr/>
          <p:nvPr/>
        </p:nvPicPr>
        <p:blipFill>
          <a:blip r:embed="rId1"/>
          <a:stretch/>
        </p:blipFill>
        <p:spPr>
          <a:xfrm>
            <a:off x="1143000" y="4114800"/>
            <a:ext cx="655308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143000"/>
            <a:ext cx="7848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-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447920" y="1143000"/>
            <a:ext cx="6329160" cy="44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ality assuranc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38080" y="5335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d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 da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914400" y="3886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aque die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9:13:21Z</dcterms:created>
  <dc:creator>Graves County High School</dc:creator>
  <dc:description/>
  <dc:language>en-US</dc:language>
  <cp:lastModifiedBy>LEGION2</cp:lastModifiedBy>
  <dcterms:modified xsi:type="dcterms:W3CDTF">2016-01-14T08:34:39Z</dcterms:modified>
  <cp:revision>22</cp:revision>
  <dc:subject/>
  <dc:title>PowerPoint Presentation</dc:title>
</cp:coreProperties>
</file>